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F6EF-3E06-491C-907E-BEDFC0933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664-33D5-4B91-BB59-998B37AB6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3D3-FEB0-4187-998C-F85D9E12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842-3F68-467B-BF84-DD07CFF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8C0-9E06-4357-9E63-A9B88E3E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E94-AA07-4D3A-87E1-DC43626E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96A-679E-4CEC-864A-B62DFC6E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8695-E199-4337-91B2-6C111E43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5D92-0704-4709-8616-2073B0F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2E6D-2F8C-489A-839D-7BD79D9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A62-F065-400C-8310-F1EE0A2D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4A3D-99F0-4BE3-94F2-14ACAB58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91B-5679-4E72-9D5C-8F7FA27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5C5-2AA8-456E-9DC0-01DBF50B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FC83-A540-4DEE-A28F-118AFDC1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E15C-2939-4038-B457-B2E2EE7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430B-E31B-4434-B042-BAB778B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78FA-768A-4F47-9637-EBB21C16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8F52-DDF9-4990-9A93-782184F2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DF78-3C44-4132-B763-EFD28726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DEF1-0DF9-49D3-B608-8F83B95D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1008-DA58-472F-BDF0-263E8EF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3AD4-6779-468C-B1BC-7B99C80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EC4D-77FE-474F-940F-6DE6C32E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665-02A8-43A4-B3EF-7BC3CA1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D24A-AB4E-42F5-A171-704EB01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FB6D-91A9-47AE-9E65-36A7147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6108-8F9C-4255-8067-E617105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6D22-6556-4ED3-953B-AA4A05E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5DF6-676C-47AD-8EED-3F8FB6CE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AC74-B297-46D2-B26B-93CEE317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1DE0-1F81-40B7-B5E3-2FCE102A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EDB2-033E-4E63-91C7-D25F9FD1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CEAF-A12B-4067-BA0A-7D2861D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0179-372F-4856-A75F-2FE039D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250-543B-4B36-8324-64B0C17C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F9A1-DCA1-4CF0-9383-BDB58A0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11FF-D934-4E90-A9EF-3E8E644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35C8-81B6-44C4-AE16-53E9E4B8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4D42-5014-4A8A-8276-ECD2615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6F04-AF8F-41A5-B645-0538518D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AE1D-A494-4181-83E6-EAE8DABE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441B-EBE4-4A68-BA34-9B8170B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4DFA-CAAC-4E06-A25C-431A5628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19B7-27F3-41FD-B9E9-800487D5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C7151-9F71-409F-8403-CB90DB52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DE6-35E1-4E28-B5E3-537371A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5D86-D3C7-475B-BA3B-A64DE837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AD3B-BECD-4E78-8A67-0369BDF8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3449-07F7-4ABB-AFB9-FB87B6FC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27E5-DECB-4EF7-869A-2326B36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79938-D9B7-4212-8884-6E647C23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F5747-F05D-4EFF-AA20-8A4F3EF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214F-6B82-4ACF-89C4-B4ADD90E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15A1-282B-4018-87B5-CA46EA2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6EA7-B29D-4632-AFD0-AF996C92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FF08-DAF2-464D-B5F3-9E0B121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272-3FD6-424D-957F-1A751615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CFE2-BB4D-4B76-A386-7DF0187A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050-59DE-447C-97FA-3E45BBDA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66B-9440-4FA2-96B0-660D315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267-0ABE-48D0-9725-CE3E628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5395-D096-48D4-8692-69193C74DDD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1839-CE29-46E5-BD62-E67380748D0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697-114F-4A69-A5D6-DF0B4DF44EA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F40-9476-4C68-B020-A50E379071C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E1A2-66A9-4814-BD5E-1C9B0FCD568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upreme Cour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952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Sonia Sotomay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5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4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ack Oba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2362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Elena Kaga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5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3 y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ack Oba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ederal Court Structu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65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t Calendar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762120" y="609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OTUS hears cases from October—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62120" y="12193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es are heard for two weeks—two weeks to conference, prepare for future cases, write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7621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dnesday, Friday—Court debates cases.  All discussion starts with Chief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38080" y="40384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,000 cases requests per year—80 cases and 130 decisions ar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dical Re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8380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d in </a:t>
            </a:r>
            <a:r>
              <a:rPr b="0" lang="en-US" sz="2800" spc="-1" strike="noStrike">
                <a:solidFill>
                  <a:srgbClr val="b45f07"/>
                </a:solidFill>
                <a:latin typeface="Verdana"/>
              </a:rPr>
              <a:t>Marbury vs 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914400" y="198108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preme Court had the power to rule on the Constitutionality of any Federal law and was to be the last voice on all things Constitu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914400" y="40384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es are mainly heard to answer a constitution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risdic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838080" y="46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Origi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Jurisdi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Cases that start and end with the Supreme Court—Gore v B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838080" y="1371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Arial"/>
              </a:rPr>
              <a:t>Appellate Juris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Cases by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8380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Writ of certiora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Higher court asks a lower court to send the record of a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838080" y="3048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Arial"/>
              </a:rPr>
              <a:t>Rule of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4 justices have to agree to hear a case on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838080" y="39625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Certific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Lower court asks SCOTUS to certify or provide an answer to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cedure—Brief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914400" y="9144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5f07"/>
                </a:solidFill>
                <a:latin typeface="Arial"/>
              </a:rPr>
              <a:t>Brie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ritten arguments filed before a case can b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9907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5f07"/>
                </a:solidFill>
                <a:latin typeface="Arial"/>
              </a:rPr>
              <a:t>Amicus Cu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Friend of th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990720" y="312408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5f07"/>
                </a:solidFill>
                <a:latin typeface="Verdana"/>
              </a:rPr>
              <a:t>Solicitor Gene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main lawyer who argues cases before SCOTUS—also provides amicus briefs for cases of government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ral Argum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914400" y="1143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yers from each side get 3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990720" y="25146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interrupted by justices—Marshall interrupted 127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990720" y="38862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stices usually have their minds made up by the time arguments ar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in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914400" y="6397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opinion that ultimately decided the case becomes </a:t>
            </a: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judicial prece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decision that has the force of law and how other similar cases are to be decided</a:t>
            </a: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914400" y="2438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Concur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Written by a member of the majority who has a special point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990720" y="35812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Dissen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Written by a member of the minority explaining why he/she disagrees—can be used for futur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upreme Court Justices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4656240"/>
          </a:xfrm>
          <a:prstGeom prst="rect">
            <a:avLst/>
          </a:prstGeom>
          <a:ln w="0">
            <a:noFill/>
          </a:ln>
        </p:spPr>
      </p:pic>
      <p:pic>
        <p:nvPicPr>
          <p:cNvPr id="231" name="01 Track 1.wma" descr=""/>
          <p:cNvPicPr/>
          <p:nvPr/>
        </p:nvPicPr>
        <p:blipFill>
          <a:blip r:embed="rId2"/>
          <a:stretch/>
        </p:blipFill>
        <p:spPr>
          <a:xfrm>
            <a:off x="990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98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ief Justice John Rober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5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8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rge W Bu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02 Track 2.wma" descr=""/>
          <p:cNvPicPr/>
          <p:nvPr/>
        </p:nvPicPr>
        <p:blipFill>
          <a:blip r:embed="rId2"/>
          <a:stretch/>
        </p:blipFill>
        <p:spPr>
          <a:xfrm>
            <a:off x="990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5542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Antonin Scali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7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7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nald Reag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Anthony Kenned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7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5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nald Reag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ng Vo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800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Clarence Thom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6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2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rge H.W. Bu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2495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Ruth Bader Ginsbur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0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l Clint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667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Stephen Brey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7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19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l Clint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8954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Samuel Ali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6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7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rge W Bu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289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6:30:32Z</dcterms:created>
  <dc:creator>lullmannj</dc:creator>
  <dc:description/>
  <dc:language>en-US</dc:language>
  <cp:lastModifiedBy>lullmannj</cp:lastModifiedBy>
  <dcterms:modified xsi:type="dcterms:W3CDTF">2013-04-23T12:48:44Z</dcterms:modified>
  <cp:revision>36</cp:revision>
  <dc:subject/>
  <dc:title>Supreme Court</dc:title>
</cp:coreProperties>
</file>